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9F5-8F18-43B3-874F-95548739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E47-E464-44EA-9365-E407C221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306-84E1-45A9-B36A-CFFA99CC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54E-5935-48C3-9294-4C43DED9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B87D-F9FE-4AC4-BFF8-3220DA65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E25B-2FA1-44A9-8DFA-2C7148FA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B560-EA3C-4FD6-8818-0C40D833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226D-1425-4FE2-95A8-F91DCAA0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2036-27B6-448F-B61F-F72D1FFC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7AE7-DD17-42FC-89DD-5F8EEB6D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BD96-5515-45B2-BB28-292800A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2DB-1FEC-4222-AAFC-5B64182B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25BA-5927-440F-B9A7-9A25AFD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B593-E558-4F34-95EA-DA907A18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00E0-5AB7-486A-AA30-4CB93394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0DDF-6503-4FBD-AABF-0E27CCE3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CEF8-0FFC-446C-B418-46CEF7D5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2F0-BDCC-4493-B08C-A03F4C7A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A56-9935-4806-882C-0EFD8FAB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204-B431-45FD-933F-443815F5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D54-8CD9-48F0-99E1-A3A523A9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115-0194-4534-80C8-3F68DE8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7C8-C809-4019-990B-9D25C982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72D-0B17-4016-A2FC-9F27E23F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6954-32D5-474C-82BE-7EA51F8E9CC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A931-E4B3-476C-A03B-11F4D9F44E2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7d47d"/>
                </a:solidFill>
                <a:latin typeface="Arial"/>
              </a:rPr>
              <a:t>METODA BACKTRACKING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83960" y="3870360"/>
            <a:ext cx="574524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2f1311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9b2</cp:lastModifiedBy>
  <dcterms:modified xsi:type="dcterms:W3CDTF">2012-06-19T10:52:17Z</dcterms:modified>
  <cp:revision>32</cp:revision>
  <dc:subject/>
  <dc:title>SALARIUL</dc:title>
</cp:coreProperties>
</file>